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0CF-4459-40EB-89D3-9AA5F653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F9C-5E0A-4D34-9FC4-66A6A20B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C49-F7C7-47B3-8B18-A2FDD6C6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635-CB03-4276-A829-ADB03675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4B2-79FF-4256-8E99-CB345D6C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1BD-45C2-4C96-AD13-5222F5A9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6D76-7C72-4E96-9013-F40852F0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8B7-805D-4745-B09C-4FA0B55E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757-D030-4CB8-A749-D458EC18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4D7-39CE-4BE8-A62A-EF344953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FAA-E5DA-4BD5-846C-4A5275D7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D46-4128-4DEE-8737-DD992113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B164-DCD1-48EA-AA59-C5EB347D36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電源使えません！容量不足です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ゴミは持ち帰ってね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「人間」「うにゅう族」の写真は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許可を取ってから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禁煙です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食べるのだけは不可です！（飲むのは可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あんまりさわがないでね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減点は１日９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兆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点まで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バナナはおやつに含まれません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000000"/>
                </a:solidFill>
                <a:uFillTx/>
                <a:latin typeface="Times New Roman"/>
              </a:rPr>
              <a:t>バグ報告は歓迎です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＜注意事項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24480" y="258840"/>
            <a:ext cx="1295640" cy="1036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106668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2:07:04Z</dcterms:created>
  <dc:creator>C.Ponapalt</dc:creator>
  <dc:description/>
  <dc:language>en-US</dc:language>
  <cp:lastModifiedBy>C.Ponapalt</cp:lastModifiedBy>
  <dcterms:modified xsi:type="dcterms:W3CDTF">2007-05-04T14:02:35Z</dcterms:modified>
  <cp:revision>6</cp:revision>
  <dc:subject/>
  <dc:title>＜注意事項＞</dc:title>
</cp:coreProperties>
</file>