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733B-9008-4D29-867E-FE9A21D1C5D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あるい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\x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（クリック待ち）で止まったままになってたとか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スクリプトが止まるの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--async=I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とか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名指定も可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更新中は何も喋らないようにするのもアリかも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きるだけ教えたほうがいいっぽ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inTab AP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フォーカスの概念があってフォーカスを奪わないとだめぽ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すでにタブレットを使ってる人は非常にうざったい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6EE-4A0E-4828-AF4C-EC2C6787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568656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ECA-27B4-4CEB-8AE9-C2EB347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457164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568656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568656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959-E017-48B9-8E50-52D1DA11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250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4571640"/>
            <a:ext cx="250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4571640"/>
            <a:ext cx="250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5686560"/>
            <a:ext cx="250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5686560"/>
            <a:ext cx="250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5686560"/>
            <a:ext cx="250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6D9-76BC-4319-81C2-E64A4D44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CCE-062A-4370-972A-CED29D36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14C-9A3B-4ECC-930F-EF6E670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3792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4571640"/>
            <a:ext cx="3792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44D-2A4B-4C4C-B704-3E8BE4B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B78-C18F-4380-BDB1-09F4AAE4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19245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B2E-F143-452B-9670-A3D4D0F7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4571640"/>
            <a:ext cx="3792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568656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B3A-B544-4940-B884-6AC1A1A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3792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457164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568656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716-3224-4E1F-81A8-ACB7997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4571640"/>
            <a:ext cx="3792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68656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E80-C7A3-4390-A12A-E7A4063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0000"/>
          </a:bodyPr>
          <a:p>
            <a:pPr marL="13716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" indent="-13716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" indent="-13716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" indent="-13716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" indent="-137160" algn="ctr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" indent="-137160" algn="ctr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" indent="-137160" algn="ctr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349C-DA5B-4085-95E1-4A694D021A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4267080"/>
            <a:ext cx="8763120" cy="0"/>
          </a:xfrm>
          <a:prstGeom prst="line">
            <a:avLst/>
          </a:prstGeom>
          <a:ln w="1522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536120" y="1764720"/>
            <a:ext cx="36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e1"/>
                </a:solidFill>
                <a:latin typeface="Arial Black"/>
                <a:ea typeface="Arial Unicode MS"/>
              </a:rPr>
              <a:t>SSP BUGTR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6600" y="635472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ゴーストレシピ</a:t>
            </a: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じかんのせつやく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SSP BUGTRAQ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C.Ponapalt (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ぽな＠ばぐとら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ブラウザやゲームの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裏で起動している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人もいます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重要な選択肢やトークを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見逃すとすごく悲しいです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教える方法（１）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v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＝ ゴーストを手前に表示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![play,sound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教える方法（２）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![set,trayicon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教える方法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（まだ妄想中）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バルーンチップとか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設定できたらいいな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6390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（３）自動更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今のところ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自動更新機能は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ついてません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そのうちつけるかも……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つけないかも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実装のヒント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![execute,http-get,URL]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![updatebymyself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まずは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更新時刻か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バージョンを把握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![execute,http-get,URL]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だけで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ファイルが取れ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ネットワーク更新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機能を発動する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\![updatebymyself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更新結果を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通知する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先ほどのネタですね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使ってもらえる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ゴーストとは？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ネタ　絵　世界観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ゴーストの更新に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限りません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たとえば、天気予報を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勝手に取ってきて通知と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「じかんのせつやく」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今後の展望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あるいは、妄想ともい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マウスジェスチャー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マウス座標は把握可能なので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個別対応はできます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でも本体で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音声認識対応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すでに対応可能な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環境はそろって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 u="sng">
                <a:solidFill>
                  <a:srgbClr val="000000"/>
                </a:solidFill>
                <a:uFillTx/>
                <a:latin typeface="Times New Roman"/>
              </a:rPr>
              <a:t>Windows Vista</a:t>
            </a:r>
            <a:r>
              <a:rPr b="0" lang="ja-JP" sz="7000" spc="-1" strike="noStrike" u="sng">
                <a:solidFill>
                  <a:srgbClr val="000000"/>
                </a:solidFill>
                <a:uFillTx/>
                <a:latin typeface="Times New Roman"/>
              </a:rPr>
              <a:t>の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音声認識対応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やってみたいなあ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どうするんだろ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タブレット</a:t>
            </a: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等で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直接画面に触れて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いろいろ操作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直感的で時間も食いませ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押し方で挙動変えるとか。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……揉むなよ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せめて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ペンタブ対応とか…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ちょっと仕様上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むずかしいんです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ご清聴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ありがとう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ございました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ツッコミ・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Times New Roman"/>
              </a:rPr>
              <a:t>バグ報告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歓迎で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ユーザさんは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ヒマがない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ネトゲやらメッセやら、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時間を食いつぶすライバルは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たくさんい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使ってもらうには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貴重な時間を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食いつぶさないこと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もちろん時と場合によります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例外：ビジュアルノベル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に近い形式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手間をかけさせ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ないためのコツを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提案します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まともに動かなかったら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ごめんね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（１）メニューに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「戻る」をつける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吹き出しも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ブラウザと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似たようなものです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ページには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「戻る」をつけようというのは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よく聞く話で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設定や一覧で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「戻る」がないと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すごくめんどくさい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いちいち最初から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操作してられません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（２）何か起こったら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わかりやすく</a:t>
            </a:r>
            <a:br>
              <a:rPr sz="7000"/>
            </a:br>
            <a:r>
              <a:rPr b="0" lang="ja-JP" sz="7000" spc="-1" strike="noStrike">
                <a:solidFill>
                  <a:srgbClr val="000000"/>
                </a:solidFill>
                <a:latin typeface="Times New Roman"/>
              </a:rPr>
              <a:t>通知する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06:38:05Z</dcterms:created>
  <dc:creator>C.Ponapalt</dc:creator>
  <dc:description/>
  <dc:language>en-US</dc:language>
  <cp:lastModifiedBy>C.Ponapalt</cp:lastModifiedBy>
  <dcterms:modified xsi:type="dcterms:W3CDTF">2007-05-03T06:45:49Z</dcterms:modified>
  <cp:revision>29</cp:revision>
  <dc:subject/>
  <dc:title>ゴーストレシピ1 じかんのせつやく</dc:title>
</cp:coreProperties>
</file>